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A3E-4ACE-474F-AB02-3A90831A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F8F-B4DA-4A1D-875F-D18053B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FEC-FC8F-427C-86D2-311D5674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C1E-FB03-4A48-B7B6-A87E95DF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2A1-9404-49A3-BF91-85C8F12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67D-2A3D-469B-8DB9-BE10E8E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070-8BEC-4226-91C7-7E61050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671-1E41-422E-8B35-032D2DB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5CB-902B-4EE1-8E73-095A72D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313-3156-45D9-9926-5944D260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32B-BEFA-4BC8-918D-9561C47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D65-1E1C-4AC0-B526-7A90C106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980F-5357-415B-9F7A-5DD1CDEF2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a50021"/>
                </a:solidFill>
                <a:latin typeface="Verdana"/>
              </a:rPr>
              <a:t>Francophones</a:t>
            </a:r>
            <a:r>
              <a:rPr b="0" lang="es-E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5400" spc="-1" strike="noStrike">
                <a:solidFill>
                  <a:srgbClr val="990033"/>
                </a:solidFill>
                <a:latin typeface="Verdana"/>
              </a:rPr>
              <a:t>célèb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100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u connais ce dessinateur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Z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Philippe Chapp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seudonyme est Z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à Genève, en  Su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’est le créateur de Tit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l est mort… 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89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Gustave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s’appelle Gustave 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ingén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né à Dijon,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a construit la Tour Eiffel pour l’Exposition Universelle de 18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our Eiffel est le monument le plus visité au mo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160020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Éric Abi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456000" cy="44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Éric Abid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joueur de football dans le F.C. Barce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oste est latéral-ga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en France, mais il est d’origine martiniqua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5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Gérard Depard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’appelle Gérard Depard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a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franç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’est l’acteur français le mieux pa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a été “Cyran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Bergerac” et “Obél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45212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arla Br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Carla Br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'est la femme du Président de la Ré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été top model et chant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en Italie, mais elle habite à Paris,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Audrey Taut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Audrey Tau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act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fait des films comme "Le fabuleux destin d'Amélie Poulain, "L'auberge espagnole" ou "Coco avant Chane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14560" y="148428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Tony Par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'appelle Tony Pa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rnom est TP (ti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joueur de basket professionnel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né à Brugge, en Belg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équipe est San Antonio, de la N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5892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éline D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’appelle Céline D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à Charlemagne, au Québec (Canad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chant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chante en anglais et en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8228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40:24Z</dcterms:created>
  <dc:creator>nombre</dc:creator>
  <dc:description/>
  <dc:language>en-US</dc:language>
  <cp:lastModifiedBy>nombre</cp:lastModifiedBy>
  <dcterms:modified xsi:type="dcterms:W3CDTF">2010-11-14T20:37:32Z</dcterms:modified>
  <cp:revision>4</cp:revision>
  <dc:subject/>
  <dc:title>Qui est-ce?</dc:title>
</cp:coreProperties>
</file>